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B59-A8DD-4165-BB98-13E4468B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FF7-66F8-4C7D-9768-677465BE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0DF-603E-4036-ABD5-2329B6F5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8EA-A4E9-46D6-9B3B-A4BEC256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8D63-7AB0-4D50-B3AA-D174BA1F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2E84-0CCF-49D6-B3FC-6486963C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1739-5C1B-4A48-8CF8-8F3DED61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A293-93C8-4EED-8BD0-88DB5906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95CE-5B29-44CF-8862-99082DBC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F68C-3780-425E-84A9-64CCC423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7057-5E5C-4102-9DFA-FE4F67C9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CEA-C7AC-4B7D-AE75-AEC81B12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BA95-79E9-4AA8-94F0-2EF0920B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BCD7-206F-4F1B-8361-1834FEEC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B97B-FEF5-46C8-907C-6AFA65E8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DAB7-CE6D-4E5A-BF4E-ACFA1B6F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C46E-E688-46BE-96C2-54BB4F28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71C-F27C-4E40-914D-6E32DB82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AE7-18A9-45BF-9903-9C983C77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DDD-B874-49A1-8A62-54F747CE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F98-CB28-4684-A4DC-1081EE93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CBB-0412-4F84-ADA7-13ABA870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615-0AAB-4C13-B0BD-62A413AA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646-5FC6-4D31-8799-D5BEBD07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93FD-3D1B-4DC7-A171-835482702EF5}" type="slidenum">
              <a:rPr b="0" lang="en-AU" sz="1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7" descr="QGO50002"/>
          <p:cNvPicPr/>
          <p:nvPr/>
        </p:nvPicPr>
        <p:blipFill>
          <a:blip r:embed="rId2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QGO50007"/>
          <p:cNvPicPr/>
          <p:nvPr/>
        </p:nvPicPr>
        <p:blipFill>
          <a:blip r:embed="rId3"/>
          <a:stretch/>
        </p:blipFill>
        <p:spPr>
          <a:xfrm>
            <a:off x="0" y="54100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QGO50003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QGO50001"/>
          <p:cNvPicPr/>
          <p:nvPr/>
        </p:nvPicPr>
        <p:blipFill>
          <a:blip r:embed="rId5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QGO50003"/>
          <p:cNvPicPr/>
          <p:nvPr/>
        </p:nvPicPr>
        <p:blipFill>
          <a:blip r:embed="rId2"/>
          <a:stretch/>
        </p:blipFill>
        <p:spPr>
          <a:xfrm>
            <a:off x="6162840" y="0"/>
            <a:ext cx="2981160" cy="2981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QGO50002"/>
          <p:cNvPicPr/>
          <p:nvPr/>
        </p:nvPicPr>
        <p:blipFill>
          <a:blip r:embed="rId3"/>
          <a:stretch/>
        </p:blipFill>
        <p:spPr>
          <a:xfrm>
            <a:off x="0" y="0"/>
            <a:ext cx="2981160" cy="2981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QGO50007"/>
          <p:cNvPicPr/>
          <p:nvPr/>
        </p:nvPicPr>
        <p:blipFill>
          <a:blip r:embed="rId4"/>
          <a:stretch/>
        </p:blipFill>
        <p:spPr>
          <a:xfrm>
            <a:off x="0" y="3876840"/>
            <a:ext cx="2981160" cy="2981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QGO50001"/>
          <p:cNvPicPr/>
          <p:nvPr/>
        </p:nvPicPr>
        <p:blipFill>
          <a:blip r:embed="rId5"/>
          <a:stretch/>
        </p:blipFill>
        <p:spPr>
          <a:xfrm>
            <a:off x="6162840" y="3876840"/>
            <a:ext cx="2981160" cy="2981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A02D-32FB-41FA-87B7-853672C01E08}" type="slidenum">
              <a:rPr b="0" lang="en-AU" sz="1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0066"/>
                </a:solidFill>
                <a:latin typeface="Times New Roman"/>
              </a:rPr>
              <a:t>CHAPTER 2</a:t>
            </a:r>
            <a:endParaRPr b="0" lang="en-US" sz="6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66"/>
                </a:solidFill>
                <a:latin typeface="Times New Roman"/>
              </a:rPr>
              <a:t>PROCESSING SKILLS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 4 - Feedback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Info received by performers about their skill performance (positive and negative neede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Main roles of feedb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Motiva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Reinfor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Change behaviou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66"/>
                </a:solidFill>
                <a:uFillTx/>
                <a:latin typeface="Times New Roman"/>
              </a:rPr>
              <a:t>Different forms of feedback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Internal feedbac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Info gained from inside the body (sens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External feedbac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Info from any external source – coach / vide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Augmented feedback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Any additional info gained about move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Knowledge of results (KR) – feedback from outcome (goal scor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Knowledge of performance (KP) – feedback about movt characterist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Eg golf swing – knowing head moved etc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 4 – Feedback (cont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Factors that affect feedback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Stages of learn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Early stages  - (KR) – simple not too much inf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Intermediate / Advanced  - (KP) – more detailed / technical info about timing and sequence of performan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Precision and Type of feedb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Needs to be precise, accurate and meaningfu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Positive feedback is generally better than negativ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Verbal, physical, written, vide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Effective Feedback – </a:t>
            </a: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summarise </a:t>
            </a:r>
            <a:r>
              <a:rPr b="0" lang="en-AU" sz="2000" spc="-1" strike="noStrike" u="sng">
                <a:solidFill>
                  <a:srgbClr val="000066"/>
                </a:solidFill>
                <a:uFillTx/>
                <a:latin typeface="Times New Roman"/>
              </a:rPr>
              <a:t>table 2.2</a:t>
            </a: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 Page 6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Timing and Frequency of Feedb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Feedback can be used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Before the movement (info retrieved from memo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During the movement (concurrent feedbac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After the movement (terminal feedbac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66"/>
                </a:solidFill>
                <a:latin typeface="Times New Roman"/>
              </a:rPr>
              <a:t>Information Processing – Skilled Perform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66"/>
                </a:solidFill>
                <a:latin typeface="Times New Roman"/>
              </a:rPr>
              <a:t>A skilled performer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Has greater ability to detect cu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Can filter out noise and anticipate necessary respon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Can reduce reaction time through practi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Is less easily trick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Seems to have almost automatic respon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Can utilise internal / external feedback more effectivel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66"/>
                </a:solidFill>
                <a:latin typeface="Times New Roman"/>
              </a:rPr>
              <a:t>Checkpoints Page 65 – Q1,2,3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66"/>
                </a:solidFill>
                <a:latin typeface="Times New Roman"/>
              </a:rPr>
              <a:t>Year 11 - Homework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Stage 3: Outp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Define Movement Time and Response Tim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Copy Figure 2.15 – Page 5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Stage 4: Feedb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Read Pages 57-6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What are the main roles of feedback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Define: Internal, External, Augmented feedbac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Define (KR) and (KP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What are the factors that effect feedback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Summarise the characteristics of a skilled perform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Complete checkpoints Page 65 – Q1,2,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66"/>
                </a:solidFill>
                <a:latin typeface="Times New Roman"/>
              </a:rPr>
              <a:t>Stages of Processing Skill Informat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66"/>
                </a:solidFill>
                <a:latin typeface="Times New Roman"/>
              </a:rPr>
              <a:t>Your skill performance is ultimately determined by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Quality of environmental info you receiv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How you learn the skil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The amount and type of previous experience you have ha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s of processing a skill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Input / stimulu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Info and signals we receive about the ski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Process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How the info is processed to make a deci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Output / move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Our response to decision ma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Feedback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Our evaluation and use of the info we receive about our perform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66"/>
                </a:solidFill>
                <a:uFillTx/>
                <a:latin typeface="Times New Roman"/>
              </a:rPr>
              <a:t>Copy table 2.3 page 4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 1 - Inpu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Info gathered from external by body’s sensory system and from the internal from proprioceptors (muscles/tendons, joints/nerve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Exteroceptive Inform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Performer receives info from external environ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Sight / hearing / touch (Field placings / speed of pitch etc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Proprioceptive Inform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Performer receives info from within the bod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Tension in muscles / joints etc…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Batter feels a good hi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Checkpoints – page 4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 2 - Processing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Made up of 3 compon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Stimulus identification (interprets and organises info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Response Selection (makes decisions about info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Response programming (coordinates movement response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STIMULUS IDENTIFIC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000066"/>
                </a:solidFill>
                <a:uFillTx/>
                <a:latin typeface="Times New Roman"/>
              </a:rPr>
              <a:t>Signal detec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Process of identifying the cues gathered by the sen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3" marL="1717200" indent="-37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Signal detection affected b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4" marL="2165400" indent="-37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Cue intensity (signal size – larger balls / contrasting colou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4" marL="2165400" indent="-37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Length / Time of cue: (serves in tennis – 200kmh vs 160kmh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4" marL="2165400" indent="-37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Noise (distraction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4" marL="2165400" indent="-37296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Capability of senses (good peripheral vision etc…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4" marL="2165400" indent="-37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Of our 5 senses – the most important to affect your cue detection is sight, as most sports rely on visual cue dete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Checkpoints 1 – 4 Page 4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 2 – Processing (cont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AU" sz="2000" spc="-1" strike="noStrike" u="sng">
                <a:solidFill>
                  <a:srgbClr val="000066"/>
                </a:solidFill>
                <a:uFillTx/>
                <a:latin typeface="Times New Roman"/>
              </a:rPr>
              <a:t>Selective atten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Process which directs our attention to a cu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Influenced by 3 areas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66"/>
                </a:solidFill>
                <a:uFillTx/>
                <a:latin typeface="Times New Roman"/>
              </a:rPr>
              <a:t>Arousal level</a:t>
            </a:r>
            <a:r>
              <a:rPr b="0" lang="en-AU" sz="1400" spc="-1" strike="noStrike">
                <a:solidFill>
                  <a:srgbClr val="000066"/>
                </a:solidFill>
                <a:latin typeface="Times New Roman"/>
              </a:rPr>
              <a:t> (degree to which you are ready to receive a cue – too relaxed / too nervous etc..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66"/>
                </a:solidFill>
                <a:uFillTx/>
                <a:latin typeface="Times New Roman"/>
              </a:rPr>
              <a:t>Experience and Anticipation</a:t>
            </a:r>
            <a:r>
              <a:rPr b="0" lang="en-AU" sz="1400" spc="-1" strike="noStrike">
                <a:solidFill>
                  <a:srgbClr val="000066"/>
                </a:solidFill>
                <a:latin typeface="Times New Roman"/>
              </a:rPr>
              <a:t> (ability to predict what is going to happen – not just a gue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66"/>
                </a:solidFill>
                <a:uFillTx/>
                <a:latin typeface="Times New Roman"/>
              </a:rPr>
              <a:t>Quality of Instruction</a:t>
            </a:r>
            <a:r>
              <a:rPr b="0" lang="en-AU" sz="1400" spc="-1" strike="noStrike">
                <a:solidFill>
                  <a:srgbClr val="000066"/>
                </a:solidFill>
                <a:latin typeface="Times New Roman"/>
              </a:rPr>
              <a:t> (learners will benefit from meaningful cue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66"/>
                </a:solidFill>
                <a:uFillTx/>
                <a:latin typeface="Times New Roman"/>
              </a:rPr>
              <a:t>Response Sele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Performer must decide on appropriate respon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Process is easier for an advanced performer as similar info held in long term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66"/>
                </a:solidFill>
                <a:uFillTx/>
                <a:latin typeface="Times New Roman"/>
              </a:rPr>
              <a:t>Response Programm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Motor response / skill is an automatic response to the cues being observ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Directly affected by reaction 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Checkpoints 1, 3 Page 4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 2 – Processing (cont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AU" sz="3200" spc="-1" strike="noStrike" u="sng">
                <a:solidFill>
                  <a:srgbClr val="000066"/>
                </a:solidFill>
                <a:uFillTx/>
                <a:latin typeface="Times New Roman"/>
              </a:rPr>
              <a:t>Reaction Tim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Following factors affect reaction tim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Age and Gender (Men faster – older slow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Intensity of cue (louder / brighter = fas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Number of choices (greater choices = great R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Probability of cue occurring (anticipating eg100m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Presence / absence of warning sig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Starter – on your marks / get s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Successive cu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brain can only process one cue at a tim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66"/>
                </a:solidFill>
                <a:uFillTx/>
                <a:latin typeface="Times New Roman"/>
              </a:rPr>
              <a:t>Complete Lab Report Page 5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 2 – Processing (cont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66"/>
                </a:solidFill>
                <a:uFillTx/>
                <a:latin typeface="Times New Roman"/>
              </a:rPr>
              <a:t>The role of memory</a:t>
            </a:r>
            <a:r>
              <a:rPr b="0" lang="en-AU" sz="2800" spc="-1" strike="noStrike" u="sng">
                <a:solidFill>
                  <a:srgbClr val="000066"/>
                </a:solidFill>
                <a:uFillTx/>
                <a:latin typeface="Times New Roman"/>
              </a:rPr>
              <a:t>:</a:t>
            </a:r>
            <a:r>
              <a:rPr b="0" lang="en-AU" sz="1200" spc="-1" strike="noStrike">
                <a:solidFill>
                  <a:srgbClr val="000066"/>
                </a:solidFill>
                <a:latin typeface="Times New Roman"/>
              </a:rPr>
              <a:t>– plays important part in storage / processing of inf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3 types of memory ar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66"/>
                </a:solidFill>
                <a:uFillTx/>
                <a:latin typeface="Times New Roman"/>
              </a:rPr>
              <a:t>Short term sensory store: </a:t>
            </a: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limitless memory store – holds information for about 1 sec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66"/>
                </a:solidFill>
                <a:uFillTx/>
                <a:latin typeface="Times New Roman"/>
              </a:rPr>
              <a:t>Short term memory: </a:t>
            </a: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‘working’ memory limited to between 5-9 items – held for up to 1 m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66"/>
                </a:solidFill>
                <a:uFillTx/>
                <a:latin typeface="Times New Roman"/>
              </a:rPr>
              <a:t>Long term memory: </a:t>
            </a: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limitless store which holds relevant information for later u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66"/>
                </a:solidFill>
                <a:uFillTx/>
                <a:latin typeface="Times New Roman"/>
              </a:rPr>
              <a:t>Relevance and meaning of inform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Times New Roman"/>
              </a:rPr>
              <a:t>More likely to remember info if you are interested / meaningful to you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Interference: noise etc. distracts you from remember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Coding and Chunking: improves short term memory by combining individual pieces of inf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66"/>
                </a:solidFill>
                <a:latin typeface="Times New Roman"/>
              </a:rPr>
              <a:t>Eg: 9435310839 – 94 35 31 08 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66"/>
                </a:solidFill>
                <a:latin typeface="Times New Roman"/>
              </a:rPr>
              <a:t>Rehearsal: practice info shortly after being told etc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Checkpoints: Page 55 – Q2,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66"/>
                </a:solidFill>
                <a:latin typeface="Times New Roman"/>
              </a:rPr>
              <a:t>Stage 3 - Outpu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66"/>
                </a:solidFill>
                <a:latin typeface="Times New Roman"/>
              </a:rPr>
              <a:t>During the output stage the neuromuscular system automatically carries out response started / coordinated by C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66"/>
                </a:solidFill>
                <a:uFillTx/>
                <a:latin typeface="Times New Roman"/>
              </a:rPr>
              <a:t>Movement time: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time b/w starting and completing respon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66"/>
                </a:solidFill>
                <a:uFillTx/>
                <a:latin typeface="Times New Roman"/>
              </a:rPr>
              <a:t>Response time: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onset of cue to completion of mov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Times New Roman"/>
              </a:rPr>
              <a:t>Reaction time + Movement tim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21:09:44Z</dcterms:created>
  <dc:creator>DE&amp;T User</dc:creator>
  <dc:description/>
  <dc:language>en-US</dc:language>
  <cp:lastModifiedBy>Lyn Clarkson</cp:lastModifiedBy>
  <dcterms:modified xsi:type="dcterms:W3CDTF">2009-10-12T23:14:35Z</dcterms:modified>
  <cp:revision>17</cp:revision>
  <dc:subject/>
  <dc:title>Stages of Processing Skill Information</dc:title>
</cp:coreProperties>
</file>